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C2D1-4899-4E01-8836-4691E572ED6F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EEE8-E607-41C7-AF74-082176619C7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EE4-79B4-4E61-B0B1-32193BE4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C097-99CC-40C9-97EB-2BCD3501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095-D029-44B8-8CEB-2B883A54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BD6-3078-4E62-8438-7CA08E6D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E544-70CA-4C88-BCB7-0AB94F36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9FCB-96AB-4E78-A214-29C9A77B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63D6-473E-4D72-9C4F-43207A8D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7EC1-04DA-4584-A18A-2A97A76E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1AE2-22C5-4650-ABA2-2D39CC5A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20F9-3F87-475A-B5C7-50ECA579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64E0-37A2-413D-B487-5AA791D6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D31-8481-4E3E-A555-F568AE69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5EA9-48D9-4E0D-B39E-3AB71179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C606-B17E-44E2-8C56-232A1E0E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8C09-F4E6-4C29-BDED-A22A1A51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4891-6830-40AE-939B-7E396C50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7361-1C86-4CA5-B337-6925A628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A049C-86F9-4D01-9AC4-DCB13C63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F1575-28B2-4870-A83B-805293B3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E3DF0-8AC3-439F-A1B3-E0B6CD5C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2CF54-CCA9-47CF-8153-1E7948AA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D393A-612F-4507-81FD-E4746837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715-91D3-418B-8A06-3B0B93A9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9C467-760D-4922-83DF-A90E0E82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586E3-C3B1-4843-9DB2-63236D69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BF625-0325-422D-B3E2-515FE822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E4354-C126-4402-B0B0-937BB78A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E9522-55AD-40D8-AB44-9A815FA5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058CB-5187-4600-A193-48FD76FB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54141-C26D-4262-A216-1E1D5096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66C3C-EE7E-4397-BA7F-70638792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BE0C6-5F45-4975-A8E5-5A28987D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1F934-ADE9-40F8-A5BD-B74CD437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49C-FA08-4080-A7F8-8B8B88B7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BF8EC-4397-45E7-8CFA-B4267FB6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2B77B-87F6-46CB-8102-36933A3F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9B476-0A6B-4313-AC21-A046EC54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DEF44-14A8-4E77-92D7-BB7570CC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D53FB-3C60-4EC5-A3BD-28D8693C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451D8-C07F-4EB8-9B92-9EE3B410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B40D5-73FA-4EF9-AA50-C75CFA75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C5467-9E05-4F14-809C-58E59523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CFD02-A280-413C-847C-7525F151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AF678-E83E-4DEB-83F6-9496FEFF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61A1-ECCB-4157-9760-C00B80E8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11BFA-2FBA-42A5-A480-2E1D3AA5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4F848-549E-4FC0-A04E-041E0709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0FD56-B525-4A9A-9508-94090D48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9EFB9-FEB2-4014-A611-C3D99801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4D28A-D416-47BE-BD62-8D15BD92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99A5E-571B-4541-ABBC-41E15DE5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19FBC-06DA-410E-B601-17A51C43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BA832-7397-4C89-A680-724F22B2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E7555-ACDB-47C3-A1F5-A2626894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CE094-1BA7-4EB3-A663-0AAB48E7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E5E-4A64-483D-80CE-04350300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DE647-6238-463D-BA05-43072F30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921B7-C751-4FBF-AD7A-9F5E2AAD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E1AAF-0977-43D7-9109-8D58DCB2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C2EFA-3CC7-4012-BE83-D17AF864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4ABC5-1707-40D6-83A1-8D76746E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75CE9-FADA-44F9-962C-6ED164ED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419D3-90F2-41E9-882D-24F51FE3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97BFA-567B-4B3D-8285-CAC1AE42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714C0-AA66-4414-88E2-C5A85FAA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99BC3-46F4-4EDF-93B8-363C7B5E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F87B-B482-47C7-B4DA-63E1DD90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662D9-197A-4785-8D2D-4C67FC42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76D8C-7B25-4EBA-AE0A-6AD7F2AB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E5A0B-DFE5-4CD2-B791-0FAEBB3E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624-363C-4263-A033-3D8E7292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8326-16EB-47CC-A965-B8ABC3FC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6904-859D-4B9D-90C4-0C72405FC753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1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4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57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12 - Ευθεία γραμμή σύνδεσης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60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4934-915B-47A9-B70A-D45C8C014633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4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7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10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3FAE-9006-4457-A1BB-3EB673FA7EC8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4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7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60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12 - Ευθεία γραμμή σύνδεσης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63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89CD-4AC0-4D37-815F-7361BC281B9A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07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10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13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12 - Ευθεία γραμμή σύνδεσης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16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CA1D-24AB-43E7-9F2D-C153EF5F4FA1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0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3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66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12 - Ευθεία γραμμή σύνδεσης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69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4D66-9D81-4F25-8D47-5C0CEAA9AFBF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3" descr=""/>
          <p:cNvPicPr/>
          <p:nvPr/>
        </p:nvPicPr>
        <p:blipFill>
          <a:blip r:embed="rId1"/>
          <a:stretch/>
        </p:blipFill>
        <p:spPr>
          <a:xfrm>
            <a:off x="506520" y="426960"/>
            <a:ext cx="81248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304920" y="195120"/>
            <a:ext cx="8613720" cy="1116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28600" y="1143000"/>
            <a:ext cx="8610480" cy="5486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000000"/>
                </a:solidFill>
                <a:uFillTx/>
                <a:latin typeface="Arial"/>
              </a:rPr>
              <a:t>α) Εξοικείωσης και προβληματισμού: Πρόκληση ενδιαφέροντος, για δραστηριοποίηση και συμμετοχή των μαθητών /τριών στη διδακτική διαδικασία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-  Γιατί βουλιάζει μια μικρή σιδερένια μπίλια και όχι ένα πλοίο πολλών τόνων;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- Γιατί δεν σβήνουν όλα τα φώτα σπίτι μας όταν καεί μια λάμπα;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28320" y="647640"/>
            <a:ext cx="8458200" cy="5639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4e3b30"/>
                </a:solidFill>
                <a:latin typeface="Arial"/>
              </a:rPr>
              <a:t>   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β) </a:t>
            </a:r>
            <a:r>
              <a:rPr b="1" lang="el-GR" sz="2800" spc="-1" strike="noStrike" u="sng">
                <a:solidFill>
                  <a:srgbClr val="4e3b30"/>
                </a:solidFill>
                <a:uFillTx/>
                <a:latin typeface="Arial"/>
                <a:ea typeface="Times New Roman"/>
              </a:rPr>
              <a:t>Εισαγωγή της νέας γνώσης: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Εισαγωγή εννοιών, αρχών, φαινομένων με ορισμούς, τύπους παραδείγματα με στόχο την κατανόηση του επιστημονικού περιεχομένου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ξηγούμε το φαινόμενο του βρασμού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Κατάταξη των σωμάτων στις τρεις ΦΚΥ: Στερεά, Υγρά, Αέρια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ισαγωγή πίεσης με Ρ = </a:t>
            </a:r>
            <a:r>
              <a:rPr b="0" i="1" lang="en-US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F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/ </a:t>
            </a:r>
            <a:r>
              <a:rPr b="0" i="1" lang="en-US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S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, Τύπος, Π.χ. τακούνι στιλέτο / αντικείμενα στην άμμο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04920" y="285480"/>
            <a:ext cx="8534160" cy="6140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γ) </a:t>
            </a:r>
            <a:r>
              <a:rPr b="1" lang="el-GR" sz="2800" spc="-1" strike="noStrike" u="sng">
                <a:solidFill>
                  <a:srgbClr val="4e3b30"/>
                </a:solidFill>
                <a:uFillTx/>
                <a:latin typeface="Arial"/>
                <a:ea typeface="Times New Roman"/>
              </a:rPr>
              <a:t>Εφαρμογή της γνώσης: 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φαρμογή της νέας γνώσης σε γνωστά φυσικά φαινόμενα και εφαρμογές της καθημερινής ζωής. Π.χ. ερμηνεία φαινομένων και τεχνολογικών εφαρμογών, λύση προβλημάτων ……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Γιατί όταν βράσει (κοχλάσει) το νερό το κατεβάζουμε από τη φωτιά;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Γιατί στον παγωμένο δρόμο φοράμε παπούτσια με «ανώμαλη» σόλα (τρακτερωτά);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ρμηνεύστε τη λειτουργία του ηλεκτρικού (ή ηλιακού) θερμοσίφωνα.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04560" y="713880"/>
            <a:ext cx="8481960" cy="5510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δ) </a:t>
            </a:r>
            <a:r>
              <a:rPr b="1" lang="el-GR" sz="3200" spc="-1" strike="noStrike" u="sng">
                <a:solidFill>
                  <a:srgbClr val="4e3b30"/>
                </a:solidFill>
                <a:uFillTx/>
                <a:latin typeface="Arial"/>
                <a:ea typeface="Times New Roman"/>
              </a:rPr>
              <a:t>Αξιολόγηση της νέας γνώσης: </a:t>
            </a:r>
            <a:r>
              <a:rPr b="1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Με ερωτήσεις, προβλήματα, ανάκληση γνώσεων …… ελέγχουμε αν κατανοήθηκε – αφομοιώθηκε η νέα γνώση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Ταξινομείστε τα παρακάτω σώματα σε Στερεά / Υγρά / Αέρια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Ποια λάμπα φωτοβολεί περισσότερο;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Rectangle 2" descr=""/>
          <p:cNvPicPr/>
          <p:nvPr/>
        </p:nvPicPr>
        <p:blipFill>
          <a:blip r:embed="rId1"/>
          <a:stretch/>
        </p:blipFill>
        <p:spPr>
          <a:xfrm>
            <a:off x="285840" y="231840"/>
            <a:ext cx="8572320" cy="13478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304560" y="1518840"/>
            <a:ext cx="8553240" cy="5195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-   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πιβεβαίωση σωστών απαντήσεων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Μάλιστα, … </a:t>
            </a:r>
            <a:r>
              <a:rPr b="0" i="1" lang="en-US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 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Πολύ ωραία … προχωρούμε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-   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αποδοκιμασία του λάθου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Μάλιστα, … κάποιος /α άλλος /η;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Όχι … βέβαια …. Άλλος/η;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Κάτι μας λες … κι άλλος ….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3" descr=""/>
          <p:cNvPicPr/>
          <p:nvPr/>
        </p:nvPicPr>
        <p:blipFill>
          <a:blip r:embed="rId1"/>
          <a:stretch/>
        </p:blipFill>
        <p:spPr>
          <a:xfrm>
            <a:off x="360360" y="426960"/>
            <a:ext cx="839952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13525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Ανακαλυπτική μέθοδος ενεργοποιεί τα παιδιά, βοηθά στην ανάπτυξη νοητικών δεξιοτήτων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και απαιτεί μικρή προετοιμασία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γνώση «ανακαλύπτεται» από τα παιδιά με κατάλληλες ερωτήσεις του δάσκαλου /ας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Η διδακτέα ύλη προωθείται από τις απαντήσεις μαθητών / τριών σε ερωτήσεις δάσκαλου / ας, οι οποίες υλοποιούν τους στόχους του μαθήματος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ρατηγική: Η δημιουργία και ο έλεγχος των υποθέσεων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179280" y="189000"/>
            <a:ext cx="8785440" cy="657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Θεωρία Μάθηση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Γνωστική –  Επεξεργασία Πληροφορίας στη γνωστική δομή των μαθητώ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Μαθητή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Ενεργητικός συμμέτοχος, έχει Αρχικές Ιδέες, όμως αλλάζουν εύκολα με τη διδασκαλί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άσκαλο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Διευκολυντής της Μάθησης – Εμψυχωτής της διαδικασί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Φάσεις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ξοικείωσης και Προβληματισμού, Δημιουργίας και Ελέγχου Υποθέσεων, Εφαρμογής και Αξιολόγησης της νέας γνώ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Γνώση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Οργανωτικό, Αναλυτικό και Παραγωγικό Επίπεδο – Διερευνητικής κατανόη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είραμα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πίδειξ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τιστοιχεί στην ανακαλυπτική επίδειξη - α.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ή και Ομαδοσυνεργατικ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τιστοιχεί στην ανακαλυπτική ομαδική εργασία - α.ο.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212760" y="304920"/>
            <a:ext cx="8645400" cy="13525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228600" y="1609560"/>
            <a:ext cx="8610480" cy="510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ακαλυπτική Επίδειξη (αε)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ακαλυπτική Ομαδική Εργασία (αοε)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Η διδακτέα ύλη προωθείται από τις απαντήσεις μαθητών / τριών σε ερωτήσεις δάσκαλου / ας, οι οποίες υλοποιούν τους στόχους του μαθήματος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139680" y="212760"/>
            <a:ext cx="8864640" cy="11714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214200" y="1294920"/>
            <a:ext cx="8715600" cy="534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ακαλύπτεται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Ιδιότητες και ταξινομήσεις σωμάτων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εις μεγεθών και φαινομένων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φαρμογές σχέσεων και αρχών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μπειρικοί νόμοι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οιχεία μεθοδολογία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ύσκολα ανακαλύπτεται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Έννοιε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ρμηνευτικά μοντέλα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Μικρόκοσμο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219240" y="426960"/>
            <a:ext cx="8656560" cy="1663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285840" y="2214360"/>
            <a:ext cx="8572320" cy="38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ύνταξ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ρχές Αντίδρασης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οινωνικό Σύστημα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ύστημα Υποστήριξης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1274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304920" y="1609560"/>
            <a:ext cx="8534160" cy="510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ργασία σε ομάδες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ύλλο εργασίας – Ερωτήσει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εριεχόμενο:                                                     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κείο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νδιαφέρον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υνοεί Ψυχοκινητικούς  στόχους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Χαμηλό γνωστικό φορτίο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ιοι στόχοι υλοποιούνται στην Α.Ο.Ε.;  - Όλο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λεονεκτήματα και Περιορισμοί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-122400" y="-158760"/>
            <a:ext cx="9528480" cy="179244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3"/>
          <p:cNvGrpSpPr/>
          <p:nvPr/>
        </p:nvGrpSpPr>
        <p:grpSpPr>
          <a:xfrm>
            <a:off x="0" y="1214280"/>
            <a:ext cx="9143640" cy="5645880"/>
            <a:chOff x="0" y="1214280"/>
            <a:chExt cx="9143640" cy="5645880"/>
          </a:xfrm>
        </p:grpSpPr>
        <p:grpSp>
          <p:nvGrpSpPr>
            <p:cNvPr id="355" name="Group 4"/>
            <p:cNvGrpSpPr/>
            <p:nvPr/>
          </p:nvGrpSpPr>
          <p:grpSpPr>
            <a:xfrm>
              <a:off x="0" y="1217880"/>
              <a:ext cx="9142920" cy="5642280"/>
              <a:chOff x="0" y="1217880"/>
              <a:chExt cx="9142920" cy="5642280"/>
            </a:xfrm>
          </p:grpSpPr>
          <p:grpSp>
            <p:nvGrpSpPr>
              <p:cNvPr id="356" name="Group 5"/>
              <p:cNvGrpSpPr/>
              <p:nvPr/>
            </p:nvGrpSpPr>
            <p:grpSpPr>
              <a:xfrm>
                <a:off x="0" y="1217880"/>
                <a:ext cx="4645440" cy="931320"/>
                <a:chOff x="0" y="1217880"/>
                <a:chExt cx="4645440" cy="931320"/>
              </a:xfrm>
            </p:grpSpPr>
            <p:sp>
              <p:nvSpPr>
                <p:cNvPr id="357" name="Rectangle 6"/>
                <p:cNvSpPr/>
                <p:nvPr/>
              </p:nvSpPr>
              <p:spPr>
                <a:xfrm>
                  <a:off x="0" y="1217880"/>
                  <a:ext cx="4645440" cy="931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ΑΝΑΚΑΛΥΠΤΙΚΗ ΕΠΙΔΕΙΞΗ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Rectangle 7"/>
                <p:cNvSpPr/>
                <p:nvPr/>
              </p:nvSpPr>
              <p:spPr>
                <a:xfrm>
                  <a:off x="5040" y="1217880"/>
                  <a:ext cx="4515480" cy="93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8"/>
              <p:cNvGrpSpPr/>
              <p:nvPr/>
            </p:nvGrpSpPr>
            <p:grpSpPr>
              <a:xfrm>
                <a:off x="4520880" y="1217880"/>
                <a:ext cx="4622040" cy="931320"/>
                <a:chOff x="4520880" y="1217880"/>
                <a:chExt cx="4622040" cy="931320"/>
              </a:xfrm>
            </p:grpSpPr>
            <p:sp>
              <p:nvSpPr>
                <p:cNvPr id="360" name="Rectangle 9"/>
                <p:cNvSpPr/>
                <p:nvPr/>
              </p:nvSpPr>
              <p:spPr>
                <a:xfrm>
                  <a:off x="4598280" y="1217880"/>
                  <a:ext cx="4544640" cy="931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ΑΝΑΚΑΛΥΠΤΙΚΗ ΟΜΑΔΙΚΗ ΕΡΓΑΣΙΑ (Α.Ο.Ε.)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Rectangle 10"/>
                <p:cNvSpPr/>
                <p:nvPr/>
              </p:nvSpPr>
              <p:spPr>
                <a:xfrm>
                  <a:off x="4520880" y="1217880"/>
                  <a:ext cx="4616280" cy="93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11"/>
              <p:cNvGrpSpPr/>
              <p:nvPr/>
            </p:nvGrpSpPr>
            <p:grpSpPr>
              <a:xfrm>
                <a:off x="0" y="2149200"/>
                <a:ext cx="4561920" cy="710280"/>
                <a:chOff x="0" y="2149200"/>
                <a:chExt cx="4561920" cy="710280"/>
              </a:xfrm>
            </p:grpSpPr>
            <p:sp>
              <p:nvSpPr>
                <p:cNvPr id="363" name="Rectangle 12"/>
                <p:cNvSpPr/>
                <p:nvPr/>
              </p:nvSpPr>
              <p:spPr>
                <a:xfrm>
                  <a:off x="0" y="2149200"/>
                  <a:ext cx="456192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δασκαλοκεντρική - μετωπική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Rectangle 13"/>
                <p:cNvSpPr/>
                <p:nvPr/>
              </p:nvSpPr>
              <p:spPr>
                <a:xfrm>
                  <a:off x="5040" y="2149200"/>
                  <a:ext cx="451512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Group 14"/>
              <p:cNvGrpSpPr/>
              <p:nvPr/>
            </p:nvGrpSpPr>
            <p:grpSpPr>
              <a:xfrm>
                <a:off x="4526280" y="2142720"/>
                <a:ext cx="4616640" cy="716400"/>
                <a:chOff x="4526280" y="2142720"/>
                <a:chExt cx="4616640" cy="716400"/>
              </a:xfrm>
            </p:grpSpPr>
            <p:sp>
              <p:nvSpPr>
                <p:cNvPr id="366" name="Rectangle 15"/>
                <p:cNvSpPr/>
                <p:nvPr/>
              </p:nvSpPr>
              <p:spPr>
                <a:xfrm>
                  <a:off x="4571280" y="2148840"/>
                  <a:ext cx="457164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μαθητοκεντρική - ομάδ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16"/>
                <p:cNvSpPr/>
                <p:nvPr/>
              </p:nvSpPr>
              <p:spPr>
                <a:xfrm>
                  <a:off x="4526280" y="2142720"/>
                  <a:ext cx="461664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Group 17"/>
              <p:cNvGrpSpPr/>
              <p:nvPr/>
            </p:nvGrpSpPr>
            <p:grpSpPr>
              <a:xfrm>
                <a:off x="0" y="2859480"/>
                <a:ext cx="4645440" cy="711720"/>
                <a:chOff x="0" y="2859480"/>
                <a:chExt cx="4645440" cy="711720"/>
              </a:xfrm>
            </p:grpSpPr>
            <p:sp>
              <p:nvSpPr>
                <p:cNvPr id="369" name="Rectangle 18"/>
                <p:cNvSpPr/>
                <p:nvPr/>
              </p:nvSpPr>
              <p:spPr>
                <a:xfrm>
                  <a:off x="0" y="2859480"/>
                  <a:ext cx="4645440" cy="711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δάσκαλος κυρίαρχο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Rectangle 19"/>
                <p:cNvSpPr/>
                <p:nvPr/>
              </p:nvSpPr>
              <p:spPr>
                <a:xfrm>
                  <a:off x="5040" y="2859480"/>
                  <a:ext cx="4515480" cy="71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Group 20"/>
              <p:cNvGrpSpPr/>
              <p:nvPr/>
            </p:nvGrpSpPr>
            <p:grpSpPr>
              <a:xfrm>
                <a:off x="4520880" y="2859480"/>
                <a:ext cx="4622040" cy="710280"/>
                <a:chOff x="4520880" y="2859480"/>
                <a:chExt cx="4622040" cy="710280"/>
              </a:xfrm>
            </p:grpSpPr>
            <p:sp>
              <p:nvSpPr>
                <p:cNvPr id="372" name="Rectangle 21"/>
                <p:cNvSpPr/>
                <p:nvPr/>
              </p:nvSpPr>
              <p:spPr>
                <a:xfrm>
                  <a:off x="4598280" y="2859480"/>
                  <a:ext cx="454464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δάσκαλος διευκολυντή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Rectangle 22"/>
                <p:cNvSpPr/>
                <p:nvPr/>
              </p:nvSpPr>
              <p:spPr>
                <a:xfrm>
                  <a:off x="4520880" y="2859480"/>
                  <a:ext cx="461628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23"/>
              <p:cNvGrpSpPr/>
              <p:nvPr/>
            </p:nvGrpSpPr>
            <p:grpSpPr>
              <a:xfrm>
                <a:off x="0" y="3522960"/>
                <a:ext cx="4570920" cy="757440"/>
                <a:chOff x="0" y="3522960"/>
                <a:chExt cx="4570920" cy="757440"/>
              </a:xfrm>
            </p:grpSpPr>
            <p:sp>
              <p:nvSpPr>
                <p:cNvPr id="375" name="Rectangle 24"/>
                <p:cNvSpPr/>
                <p:nvPr/>
              </p:nvSpPr>
              <p:spPr>
                <a:xfrm>
                  <a:off x="0" y="3522960"/>
                  <a:ext cx="4570920" cy="709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συμμετέχουν πολλοί μαθητές/τρι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Rectangle 25"/>
                <p:cNvSpPr/>
                <p:nvPr/>
              </p:nvSpPr>
              <p:spPr>
                <a:xfrm>
                  <a:off x="5040" y="3573360"/>
                  <a:ext cx="4515120" cy="70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Group 26"/>
              <p:cNvGrpSpPr/>
              <p:nvPr/>
            </p:nvGrpSpPr>
            <p:grpSpPr>
              <a:xfrm>
                <a:off x="4520880" y="3570120"/>
                <a:ext cx="4622040" cy="710640"/>
                <a:chOff x="4520880" y="3570120"/>
                <a:chExt cx="4622040" cy="710640"/>
              </a:xfrm>
            </p:grpSpPr>
            <p:sp>
              <p:nvSpPr>
                <p:cNvPr id="378" name="Rectangle 27"/>
                <p:cNvSpPr/>
                <p:nvPr/>
              </p:nvSpPr>
              <p:spPr>
                <a:xfrm>
                  <a:off x="4571280" y="3570120"/>
                  <a:ext cx="4571640" cy="710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συμμετέχουν όλοι οι μαθητές/τρι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Rectangle 28"/>
                <p:cNvSpPr/>
                <p:nvPr/>
              </p:nvSpPr>
              <p:spPr>
                <a:xfrm>
                  <a:off x="4520880" y="3570120"/>
                  <a:ext cx="4622040" cy="71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29"/>
              <p:cNvGrpSpPr/>
              <p:nvPr/>
            </p:nvGrpSpPr>
            <p:grpSpPr>
              <a:xfrm>
                <a:off x="0" y="4178880"/>
                <a:ext cx="4643640" cy="1033200"/>
                <a:chOff x="0" y="4178880"/>
                <a:chExt cx="4643640" cy="1033200"/>
              </a:xfrm>
            </p:grpSpPr>
            <p:sp>
              <p:nvSpPr>
                <p:cNvPr id="381" name="Rectangle 30"/>
                <p:cNvSpPr/>
                <p:nvPr/>
              </p:nvSpPr>
              <p:spPr>
                <a:xfrm>
                  <a:off x="0" y="4178880"/>
                  <a:ext cx="4643640" cy="1033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χειρισμός διδακτικού υλικού από εκπαιδευτικό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31"/>
                <p:cNvSpPr/>
                <p:nvPr/>
              </p:nvSpPr>
              <p:spPr>
                <a:xfrm>
                  <a:off x="5040" y="4280760"/>
                  <a:ext cx="4515480" cy="93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32"/>
              <p:cNvGrpSpPr/>
              <p:nvPr/>
            </p:nvGrpSpPr>
            <p:grpSpPr>
              <a:xfrm>
                <a:off x="4520880" y="4281120"/>
                <a:ext cx="4622040" cy="931320"/>
                <a:chOff x="4520880" y="4281120"/>
                <a:chExt cx="4622040" cy="931320"/>
              </a:xfrm>
            </p:grpSpPr>
            <p:sp>
              <p:nvSpPr>
                <p:cNvPr id="384" name="Rectangle 33"/>
                <p:cNvSpPr/>
                <p:nvPr/>
              </p:nvSpPr>
              <p:spPr>
                <a:xfrm>
                  <a:off x="4598280" y="4281120"/>
                  <a:ext cx="4544640" cy="931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χειρισμός διδακτικού υλικού από μαθητές/τρι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34"/>
                <p:cNvSpPr/>
                <p:nvPr/>
              </p:nvSpPr>
              <p:spPr>
                <a:xfrm>
                  <a:off x="4520880" y="4281120"/>
                  <a:ext cx="4616280" cy="93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35"/>
              <p:cNvGrpSpPr/>
              <p:nvPr/>
            </p:nvGrpSpPr>
            <p:grpSpPr>
              <a:xfrm>
                <a:off x="0" y="5212440"/>
                <a:ext cx="4561920" cy="710280"/>
                <a:chOff x="0" y="5212440"/>
                <a:chExt cx="4561920" cy="710280"/>
              </a:xfrm>
            </p:grpSpPr>
            <p:sp>
              <p:nvSpPr>
                <p:cNvPr id="387" name="Rectangle 36"/>
                <p:cNvSpPr/>
                <p:nvPr/>
              </p:nvSpPr>
              <p:spPr>
                <a:xfrm>
                  <a:off x="0" y="5212440"/>
                  <a:ext cx="456192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παραδοσιακή διαχείριση τάξη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37"/>
                <p:cNvSpPr/>
                <p:nvPr/>
              </p:nvSpPr>
              <p:spPr>
                <a:xfrm>
                  <a:off x="5040" y="5212440"/>
                  <a:ext cx="451512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38"/>
              <p:cNvGrpSpPr/>
              <p:nvPr/>
            </p:nvGrpSpPr>
            <p:grpSpPr>
              <a:xfrm>
                <a:off x="4520880" y="5212440"/>
                <a:ext cx="4622040" cy="710280"/>
                <a:chOff x="4520880" y="5212440"/>
                <a:chExt cx="4622040" cy="710280"/>
              </a:xfrm>
            </p:grpSpPr>
            <p:sp>
              <p:nvSpPr>
                <p:cNvPr id="390" name="Rectangle 39"/>
                <p:cNvSpPr/>
                <p:nvPr/>
              </p:nvSpPr>
              <p:spPr>
                <a:xfrm>
                  <a:off x="4571280" y="5212440"/>
                  <a:ext cx="457164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τάξη σε ομάδ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40"/>
                <p:cNvSpPr/>
                <p:nvPr/>
              </p:nvSpPr>
              <p:spPr>
                <a:xfrm>
                  <a:off x="4520880" y="5212440"/>
                  <a:ext cx="461628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Group 41"/>
              <p:cNvGrpSpPr/>
              <p:nvPr/>
            </p:nvGrpSpPr>
            <p:grpSpPr>
              <a:xfrm>
                <a:off x="0" y="5923080"/>
                <a:ext cx="4570920" cy="937080"/>
                <a:chOff x="0" y="5923080"/>
                <a:chExt cx="4570920" cy="937080"/>
              </a:xfrm>
            </p:grpSpPr>
            <p:sp>
              <p:nvSpPr>
                <p:cNvPr id="393" name="Rectangle 42"/>
                <p:cNvSpPr/>
                <p:nvPr/>
              </p:nvSpPr>
              <p:spPr>
                <a:xfrm>
                  <a:off x="0" y="5929200"/>
                  <a:ext cx="4570920" cy="9309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γνωστικοί στόχοι (νοητικές δεξιότητες και ειδικοί γνωστικοί)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Rectangle 43"/>
                <p:cNvSpPr/>
                <p:nvPr/>
              </p:nvSpPr>
              <p:spPr>
                <a:xfrm>
                  <a:off x="5040" y="5923080"/>
                  <a:ext cx="4515120" cy="93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Group 44"/>
              <p:cNvGrpSpPr/>
              <p:nvPr/>
            </p:nvGrpSpPr>
            <p:grpSpPr>
              <a:xfrm>
                <a:off x="4520880" y="5923080"/>
                <a:ext cx="4622040" cy="931320"/>
                <a:chOff x="4520880" y="5923080"/>
                <a:chExt cx="4622040" cy="931320"/>
              </a:xfrm>
            </p:grpSpPr>
            <p:sp>
              <p:nvSpPr>
                <p:cNvPr id="396" name="Rectangle 45"/>
                <p:cNvSpPr/>
                <p:nvPr/>
              </p:nvSpPr>
              <p:spPr>
                <a:xfrm>
                  <a:off x="4571280" y="5923080"/>
                  <a:ext cx="4571640" cy="931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ψυχοκινητικοί,  συναισθηματικοί και γνωστικοί στόχοι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Rectangle 46"/>
                <p:cNvSpPr/>
                <p:nvPr/>
              </p:nvSpPr>
              <p:spPr>
                <a:xfrm>
                  <a:off x="4520880" y="5923080"/>
                  <a:ext cx="4616280" cy="93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8" name="Rectangle 47"/>
            <p:cNvSpPr/>
            <p:nvPr/>
          </p:nvSpPr>
          <p:spPr>
            <a:xfrm>
              <a:off x="0" y="1214280"/>
              <a:ext cx="9143640" cy="5644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285840" y="244440"/>
            <a:ext cx="8572320" cy="12366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50560" y="1428840"/>
            <a:ext cx="8569080" cy="516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διερευνητική προσέγγιση φαίνεται να ενσωματώνει πολλά στοιχεία των προηγούμενων ρευμάτων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όχος είναι η πολύπλευρη μύηση του μαθητή στο περιεχόμενο, τις διαδικασίες και τη φύση της επιστήμης, παρά η μάθηση κάποιων γεγονότων, εννοιών, νόμων κλπ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95280" y="476280"/>
            <a:ext cx="8424720" cy="590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μέθοδος πρόβλεψης και ελέγχουν μεταβλητών που επηρεάζουν ένα φαινόμενο. «Ποιοι παράγοντες επηρεάζουν την πλεύση – βύθιση?»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γνώση και η εφαρμογή μοντέλων. Π.χ. η εισαγωγή της πυκνότητας στο Δημοτικό μέσω του μοντέλου συνωστισμένου πλήθους (δες επόμενη διαφάνεια)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μελέτη πηγών – αναζήτηση πληροφοριών και η συγγραφή σχετικής έκθεσης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μέθοδο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igsaw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 and experts group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2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3" descr=""/>
          <p:cNvPicPr/>
          <p:nvPr/>
        </p:nvPicPr>
        <p:blipFill>
          <a:blip r:embed="rId1"/>
          <a:stretch/>
        </p:blipFill>
        <p:spPr>
          <a:xfrm>
            <a:off x="712800" y="1000080"/>
            <a:ext cx="77724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285840" y="12600"/>
            <a:ext cx="8572320" cy="12430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50920" y="977400"/>
            <a:ext cx="8610480" cy="57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Οι μαθητές έρχονται στην τάξη με γνώσεις και εμπειρίες από το καθημερινό περιβάλλον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ι γνώσεις αυτές δημιουργούν αναπαραστάσεις για τις έννοιες και τα φαινόμενα των Φυσικών Επιστημών 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Οι αναπαραστάσεις αυτές επηρεάζουν ισχυρά τη διδασκαλία και καθοδηγούν τη μάθησ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Άρα, σχεδιάζουμε διδασκαλίες λαμβάνοντας υπόψη τις αρχικές ιδέες των μαθητών (ι.μ.) μας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304920" y="142920"/>
            <a:ext cx="8534160" cy="657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Θεωρία Μάθηση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Εποικοδομητική (Γνωστική) –  Ο μαθητής «κατασκευάζει» τη γνώση του στη βάση των αρχικών ιδεών / εμπειριών το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Μαθητή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Ενεργητικός συμμέτοχος, έχει Αρχικές Ιδέες, που επηρεάζουν τη διδασκαλί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άσκαλο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Διευκολυντής της Μάθησης – Εμψυχωτής της διαδικασίας – Γνώστης Αρχικών ι.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Φάσεις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Ανάδειξης των ι.μ., Δοκιμασίας των ι.μ., Εισαγωγής και Εφαρμογής της νέας γνώσης, Μεταγνώ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Γνώση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Οργανωτικό, Αναλυτικό και Παραγωγικό Επίπεδο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ι Μεταγνωστικ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είραμα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πίδειξης ή και Ομαδοσυνεργατικό – για τη δοκιμασία των ι.μ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139680" y="73080"/>
            <a:ext cx="8718480" cy="13478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213840" y="1428480"/>
            <a:ext cx="8643960" cy="514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 u="sng">
                <a:solidFill>
                  <a:srgbClr val="4e3b30"/>
                </a:solidFill>
                <a:uFillTx/>
                <a:latin typeface="Arial"/>
                <a:ea typeface="Arial"/>
              </a:rPr>
              <a:t>Προυπόθεση: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Ύπαρξη διαισθητικών εναλλακτικών ιδεών και επίδρασή τους στη διδασκαλία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 u="sng">
                <a:solidFill>
                  <a:srgbClr val="4e3b30"/>
                </a:solidFill>
                <a:uFillTx/>
                <a:latin typeface="Arial"/>
                <a:ea typeface="Arial"/>
              </a:rPr>
              <a:t>Μαθητής: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Ενήμερος απόψεών του, καθώς και των συμμαθητών του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Κατασκευάζει τη γνώση,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Αναγνωρίζει την «ανωτερότητα» της νέας γνώσης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Αναγνωρίζει την πορεία μάθησης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 u="sng">
                <a:solidFill>
                  <a:srgbClr val="4e3b30"/>
                </a:solidFill>
                <a:uFillTx/>
                <a:latin typeface="Arial"/>
                <a:ea typeface="Arial"/>
              </a:rPr>
              <a:t>Εκπαιδευτικός: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Ανιχνεύει / βρίσκει τις ι.μ. και τις μοντελοποιεί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Διευκολύνει τη μάθηση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Εισάγει τη νέα γνώση, ως ευλογοφανή και παραγωγικότερη αρχικής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Επιδεικνύει διδακτικό υλικό ή οδηγεί τους Μ. να το κάνουν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Περιεχόμενο διδασκαλίας: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Επιλέγεται και μετασχηματίζεται διδακτικά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Στρατηγικές στο εποικοδομητικό μοντέλο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Γνωστικής σύγκρουσης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Ενίσχυσης των ιδεών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Αναλογίες και Μεταφορές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Γεφύρωση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8718480" cy="1353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228600" y="1595520"/>
            <a:ext cx="8686800" cy="4905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«Η σύνταξη περιγράφει το μοντέλο σαν μια ροή δράσεων. Εάν ο/η  εκπαιδευτικός χρησιμοποιούσε το μοντέλο, πως θ’ άρχιζε; Τι θα έκανε πρώτο, δεύτερο, τρίτο;  Η σύνταξη περιγράφεται με μια σειρά γεγονότων, που αποκαλούνται φάσεις. Κάθε μοντέλο έχει μια διακριτή ροή φάσεων…Μία σύγκριση των συντακτικών δομών των μοντέλων αναδεικνύει τις πρακτικές διαφορές που υπάρχουν μεταξύ τους»,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l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yce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, σελ. 5, 1978).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85840" y="73080"/>
            <a:ext cx="8645400" cy="22129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28600" y="1981080"/>
            <a:ext cx="8701200" cy="4572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Φάσεις: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νάδειξης των ιδεών μαθητών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2, 3)Δοκιμασίας των ιδεών και καταγραφής των αποτελεσμάτων της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4) Εισαγωγής του επιστημονικού προτύπου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5) Εφαρμογής του επιστημονικού προτύπου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6) Μεταγνωστική φάση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4 - TextBox" descr=""/>
          <p:cNvPicPr/>
          <p:nvPr/>
        </p:nvPicPr>
        <p:blipFill>
          <a:blip r:embed="rId1"/>
          <a:stretch/>
        </p:blipFill>
        <p:spPr>
          <a:xfrm>
            <a:off x="285840" y="73080"/>
            <a:ext cx="3786120" cy="3030480"/>
          </a:xfrm>
          <a:prstGeom prst="rect">
            <a:avLst/>
          </a:prstGeom>
          <a:ln w="0">
            <a:noFill/>
          </a:ln>
        </p:spPr>
      </p:pic>
      <p:sp>
        <p:nvSpPr>
          <p:cNvPr id="413" name="5 - TextBox"/>
          <p:cNvSpPr/>
          <p:nvPr/>
        </p:nvSpPr>
        <p:spPr>
          <a:xfrm>
            <a:off x="285840" y="3103560"/>
            <a:ext cx="3643200" cy="325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Υπόμνημα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Φάση ανάδειξης των ιδεών των μαθητώ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2,3. Φάση δοκιμασία των ιδεών και καταγραφής των αποτελεσμάτων τη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4.    Φάση εισαγωγής του επιστημονικού προτύπο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5.    Φάση εφαρμογής του επιστημονικού προτύπο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6.    Φάση ανασκόπησης σύγκρισης  μεταξύ των ιδεών των μαθητών και του επιστημονικού προτύπο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6 - TextBox" descr=""/>
          <p:cNvPicPr/>
          <p:nvPr/>
        </p:nvPicPr>
        <p:blipFill>
          <a:blip r:embed="rId2"/>
          <a:stretch/>
        </p:blipFill>
        <p:spPr>
          <a:xfrm>
            <a:off x="3998880" y="426960"/>
            <a:ext cx="841320" cy="2140200"/>
          </a:xfrm>
          <a:prstGeom prst="rect">
            <a:avLst/>
          </a:prstGeom>
          <a:ln w="0">
            <a:noFill/>
          </a:ln>
        </p:spPr>
      </p:pic>
      <p:pic>
        <p:nvPicPr>
          <p:cNvPr id="415" name="7 - TextBox" descr=""/>
          <p:cNvPicPr/>
          <p:nvPr/>
        </p:nvPicPr>
        <p:blipFill>
          <a:blip r:embed="rId3"/>
          <a:stretch/>
        </p:blipFill>
        <p:spPr>
          <a:xfrm>
            <a:off x="3998880" y="2925720"/>
            <a:ext cx="841320" cy="3017880"/>
          </a:xfrm>
          <a:prstGeom prst="rect">
            <a:avLst/>
          </a:prstGeom>
          <a:ln w="0">
            <a:noFill/>
          </a:ln>
        </p:spPr>
      </p:pic>
      <p:sp>
        <p:nvSpPr>
          <p:cNvPr id="416" name="8 - TextBox"/>
          <p:cNvSpPr/>
          <p:nvPr/>
        </p:nvSpPr>
        <p:spPr>
          <a:xfrm>
            <a:off x="4857840" y="928800"/>
            <a:ext cx="1643040" cy="10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ΙΔΕΕΣ ΜΑΘΗΤΩΝ</a:t>
            </a:r>
            <a:br>
              <a:rPr sz="2400"/>
            </a:b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(Αρχική Γνώση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9 - TextBox"/>
          <p:cNvSpPr/>
          <p:nvPr/>
        </p:nvSpPr>
        <p:spPr>
          <a:xfrm>
            <a:off x="6858000" y="928800"/>
            <a:ext cx="2000160" cy="10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ΕΠΙΣΤΗΜΟΝΙΚΟ ΠΡΟΤΥΠΟ</a:t>
            </a:r>
            <a:br>
              <a:rPr sz="2400"/>
            </a:b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(Επιθυμητή Γνώση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10 - TextBox"/>
          <p:cNvSpPr/>
          <p:nvPr/>
        </p:nvSpPr>
        <p:spPr>
          <a:xfrm>
            <a:off x="4857840" y="3643200"/>
            <a:ext cx="3786120" cy="128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ΕΡΓΑ ΚΑΤΑΛΛΗΛΑ:</a:t>
            </a:r>
            <a:br>
              <a:rPr sz="2400"/>
            </a:b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Για την ανακάλυψη των ιδεών των μαθητών</a:t>
            </a:r>
            <a:br>
              <a:rPr sz="1500"/>
            </a:b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Για την οικοδόμηση της επιθυμητής γνώσης</a:t>
            </a: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12 - Ευθύγραμμο βέλος σύνδεσης"/>
          <p:cNvCxnSpPr/>
          <p:nvPr/>
        </p:nvCxnSpPr>
        <p:spPr>
          <a:xfrm flipH="1">
            <a:off x="5784480" y="2143080"/>
            <a:ext cx="2160" cy="1215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0" name="20 - Ευθύγραμμο βέλος σύνδεσης"/>
          <p:cNvCxnSpPr/>
          <p:nvPr/>
        </p:nvCxnSpPr>
        <p:spPr>
          <a:xfrm flipV="1">
            <a:off x="5214960" y="2142720"/>
            <a:ext cx="2160" cy="1215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1" name="21 - Ευθύγραμμο βέλος σύνδεσης"/>
          <p:cNvCxnSpPr/>
          <p:nvPr/>
        </p:nvCxnSpPr>
        <p:spPr>
          <a:xfrm flipH="1">
            <a:off x="8071560" y="2214360"/>
            <a:ext cx="2520" cy="121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24 - Ευθύγραμμο βέλος σύνδεσης"/>
          <p:cNvCxnSpPr/>
          <p:nvPr/>
        </p:nvCxnSpPr>
        <p:spPr>
          <a:xfrm flipV="1">
            <a:off x="6071040" y="2142720"/>
            <a:ext cx="2520" cy="1215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3" name="25 - Ευθύγραμμο βέλος σύνδεσης"/>
          <p:cNvCxnSpPr/>
          <p:nvPr/>
        </p:nvCxnSpPr>
        <p:spPr>
          <a:xfrm flipV="1">
            <a:off x="7714080" y="2214000"/>
            <a:ext cx="2520" cy="121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4" name="26 - TextBox"/>
          <p:cNvSpPr/>
          <p:nvPr/>
        </p:nvSpPr>
        <p:spPr>
          <a:xfrm>
            <a:off x="484128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27 - TextBox"/>
          <p:cNvSpPr/>
          <p:nvPr/>
        </p:nvSpPr>
        <p:spPr>
          <a:xfrm>
            <a:off x="732564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28 - TextBox"/>
          <p:cNvSpPr/>
          <p:nvPr/>
        </p:nvSpPr>
        <p:spPr>
          <a:xfrm>
            <a:off x="612720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29 - TextBox"/>
          <p:cNvSpPr/>
          <p:nvPr/>
        </p:nvSpPr>
        <p:spPr>
          <a:xfrm>
            <a:off x="539676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30 - TextBox"/>
          <p:cNvSpPr/>
          <p:nvPr/>
        </p:nvSpPr>
        <p:spPr>
          <a:xfrm>
            <a:off x="811152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9" name="32 - Ευθύγραμμο βέλος σύνδεσης"/>
          <p:cNvCxnSpPr>
            <a:stCxn id="416" idx="3"/>
            <a:endCxn id="417" idx="1"/>
          </p:cNvCxnSpPr>
          <p:nvPr/>
        </p:nvCxnSpPr>
        <p:spPr>
          <a:xfrm>
            <a:off x="6500880" y="1459080"/>
            <a:ext cx="3578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30" name="35 - TextBox"/>
          <p:cNvSpPr/>
          <p:nvPr/>
        </p:nvSpPr>
        <p:spPr>
          <a:xfrm>
            <a:off x="6500880" y="9288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3"/>
          <p:cNvGrpSpPr/>
          <p:nvPr/>
        </p:nvGrpSpPr>
        <p:grpSpPr>
          <a:xfrm>
            <a:off x="0" y="1752480"/>
            <a:ext cx="9143640" cy="5105160"/>
            <a:chOff x="0" y="1752480"/>
            <a:chExt cx="9143640" cy="5105160"/>
          </a:xfrm>
        </p:grpSpPr>
        <p:grpSp>
          <p:nvGrpSpPr>
            <p:cNvPr id="433" name="Group 4"/>
            <p:cNvGrpSpPr/>
            <p:nvPr/>
          </p:nvGrpSpPr>
          <p:grpSpPr>
            <a:xfrm>
              <a:off x="0" y="1757880"/>
              <a:ext cx="9142920" cy="5093640"/>
              <a:chOff x="0" y="1757880"/>
              <a:chExt cx="9142920" cy="5093640"/>
            </a:xfrm>
          </p:grpSpPr>
          <p:grpSp>
            <p:nvGrpSpPr>
              <p:cNvPr id="434" name="Group 5"/>
              <p:cNvGrpSpPr/>
              <p:nvPr/>
            </p:nvGrpSpPr>
            <p:grpSpPr>
              <a:xfrm>
                <a:off x="0" y="1757880"/>
                <a:ext cx="4356000" cy="925560"/>
                <a:chOff x="0" y="1757880"/>
                <a:chExt cx="4356000" cy="925560"/>
              </a:xfrm>
            </p:grpSpPr>
            <p:sp>
              <p:nvSpPr>
                <p:cNvPr id="435" name="Rectangle 6"/>
                <p:cNvSpPr/>
                <p:nvPr/>
              </p:nvSpPr>
              <p:spPr>
                <a:xfrm>
                  <a:off x="0" y="1757880"/>
                  <a:ext cx="4356000" cy="9255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3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ΜΕΤΑΦΟΡΑ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3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7"/>
                <p:cNvSpPr/>
                <p:nvPr/>
              </p:nvSpPr>
              <p:spPr>
                <a:xfrm>
                  <a:off x="6480" y="1757880"/>
                  <a:ext cx="4316400" cy="92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8"/>
              <p:cNvGrpSpPr/>
              <p:nvPr/>
            </p:nvGrpSpPr>
            <p:grpSpPr>
              <a:xfrm>
                <a:off x="4321440" y="1757880"/>
                <a:ext cx="4821480" cy="925560"/>
                <a:chOff x="4321440" y="1757880"/>
                <a:chExt cx="4821480" cy="925560"/>
              </a:xfrm>
            </p:grpSpPr>
            <p:sp>
              <p:nvSpPr>
                <p:cNvPr id="438" name="Rectangle 9"/>
                <p:cNvSpPr/>
                <p:nvPr/>
              </p:nvSpPr>
              <p:spPr>
                <a:xfrm>
                  <a:off x="4356360" y="1757880"/>
                  <a:ext cx="4786560" cy="9255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3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ΑΝΑΚΑΛΥΨΗ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0"/>
                <p:cNvSpPr/>
                <p:nvPr/>
              </p:nvSpPr>
              <p:spPr>
                <a:xfrm>
                  <a:off x="4321440" y="1757880"/>
                  <a:ext cx="4815000" cy="92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1"/>
              <p:cNvGrpSpPr/>
              <p:nvPr/>
            </p:nvGrpSpPr>
            <p:grpSpPr>
              <a:xfrm>
                <a:off x="0" y="2683800"/>
                <a:ext cx="4356000" cy="747720"/>
                <a:chOff x="0" y="2683800"/>
                <a:chExt cx="4356000" cy="747720"/>
              </a:xfrm>
            </p:grpSpPr>
            <p:sp>
              <p:nvSpPr>
                <p:cNvPr id="441" name="Rectangle 12"/>
                <p:cNvSpPr/>
                <p:nvPr/>
              </p:nvSpPr>
              <p:spPr>
                <a:xfrm>
                  <a:off x="0" y="2683800"/>
                  <a:ext cx="4356000" cy="747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7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δάσκαλος μεταφορέα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13"/>
                <p:cNvSpPr/>
                <p:nvPr/>
              </p:nvSpPr>
              <p:spPr>
                <a:xfrm>
                  <a:off x="6480" y="2683800"/>
                  <a:ext cx="4316400" cy="74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14"/>
              <p:cNvGrpSpPr/>
              <p:nvPr/>
            </p:nvGrpSpPr>
            <p:grpSpPr>
              <a:xfrm>
                <a:off x="4285800" y="2683800"/>
                <a:ext cx="4857120" cy="747720"/>
                <a:chOff x="4285800" y="2683800"/>
                <a:chExt cx="4857120" cy="747720"/>
              </a:xfrm>
            </p:grpSpPr>
            <p:sp>
              <p:nvSpPr>
                <p:cNvPr id="444" name="Rectangle 15"/>
                <p:cNvSpPr/>
                <p:nvPr/>
              </p:nvSpPr>
              <p:spPr>
                <a:xfrm>
                  <a:off x="4285800" y="2683800"/>
                  <a:ext cx="4857120" cy="747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δάσκαλος διευκολυντή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16"/>
                <p:cNvSpPr/>
                <p:nvPr/>
              </p:nvSpPr>
              <p:spPr>
                <a:xfrm>
                  <a:off x="4321080" y="2683800"/>
                  <a:ext cx="4815000" cy="74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17"/>
              <p:cNvGrpSpPr/>
              <p:nvPr/>
            </p:nvGrpSpPr>
            <p:grpSpPr>
              <a:xfrm>
                <a:off x="0" y="3432240"/>
                <a:ext cx="4356000" cy="748080"/>
                <a:chOff x="0" y="3432240"/>
                <a:chExt cx="4356000" cy="748080"/>
              </a:xfrm>
            </p:grpSpPr>
            <p:sp>
              <p:nvSpPr>
                <p:cNvPr id="447" name="Rectangle 18"/>
                <p:cNvSpPr/>
                <p:nvPr/>
              </p:nvSpPr>
              <p:spPr>
                <a:xfrm>
                  <a:off x="0" y="3432240"/>
                  <a:ext cx="4356000" cy="748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μαθητής Παθητικός  δέκτη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Rectangle 19"/>
                <p:cNvSpPr/>
                <p:nvPr/>
              </p:nvSpPr>
              <p:spPr>
                <a:xfrm>
                  <a:off x="6480" y="3432240"/>
                  <a:ext cx="4316400" cy="74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20"/>
              <p:cNvGrpSpPr/>
              <p:nvPr/>
            </p:nvGrpSpPr>
            <p:grpSpPr>
              <a:xfrm>
                <a:off x="4285800" y="3432240"/>
                <a:ext cx="4857120" cy="748080"/>
                <a:chOff x="4285800" y="3432240"/>
                <a:chExt cx="4857120" cy="748080"/>
              </a:xfrm>
            </p:grpSpPr>
            <p:sp>
              <p:nvSpPr>
                <p:cNvPr id="450" name="Rectangle 21"/>
                <p:cNvSpPr/>
                <p:nvPr/>
              </p:nvSpPr>
              <p:spPr>
                <a:xfrm>
                  <a:off x="4285800" y="3432240"/>
                  <a:ext cx="4857120" cy="748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μαθητής ενεργό υποκείμενο μάθηση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Rectangle 22"/>
                <p:cNvSpPr/>
                <p:nvPr/>
              </p:nvSpPr>
              <p:spPr>
                <a:xfrm>
                  <a:off x="4321080" y="3432240"/>
                  <a:ext cx="4815000" cy="74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23"/>
              <p:cNvGrpSpPr/>
              <p:nvPr/>
            </p:nvGrpSpPr>
            <p:grpSpPr>
              <a:xfrm>
                <a:off x="0" y="4180680"/>
                <a:ext cx="4356000" cy="747720"/>
                <a:chOff x="0" y="4180680"/>
                <a:chExt cx="4356000" cy="747720"/>
              </a:xfrm>
            </p:grpSpPr>
            <p:sp>
              <p:nvSpPr>
                <p:cNvPr id="453" name="Rectangle 24"/>
                <p:cNvSpPr/>
                <p:nvPr/>
              </p:nvSpPr>
              <p:spPr>
                <a:xfrm>
                  <a:off x="0" y="4180680"/>
                  <a:ext cx="4356000" cy="747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ποιο περιεχόμενο μεταφέρεται? ΟΛΟ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Rectangle 25"/>
                <p:cNvSpPr/>
                <p:nvPr/>
              </p:nvSpPr>
              <p:spPr>
                <a:xfrm>
                  <a:off x="6480" y="4180680"/>
                  <a:ext cx="4316400" cy="74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26"/>
              <p:cNvGrpSpPr/>
              <p:nvPr/>
            </p:nvGrpSpPr>
            <p:grpSpPr>
              <a:xfrm>
                <a:off x="4285800" y="4180680"/>
                <a:ext cx="4857120" cy="747720"/>
                <a:chOff x="4285800" y="4180680"/>
                <a:chExt cx="4857120" cy="747720"/>
              </a:xfrm>
            </p:grpSpPr>
            <p:sp>
              <p:nvSpPr>
                <p:cNvPr id="456" name="Rectangle 27"/>
                <p:cNvSpPr/>
                <p:nvPr/>
              </p:nvSpPr>
              <p:spPr>
                <a:xfrm>
                  <a:off x="4285800" y="4180680"/>
                  <a:ext cx="4857120" cy="747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ποιο περιεχόμενο ανακαλύπτεται? ΟΛΟ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Rectangle 28"/>
                <p:cNvSpPr/>
                <p:nvPr/>
              </p:nvSpPr>
              <p:spPr>
                <a:xfrm>
                  <a:off x="4321080" y="4180680"/>
                  <a:ext cx="4815000" cy="74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29"/>
              <p:cNvGrpSpPr/>
              <p:nvPr/>
            </p:nvGrpSpPr>
            <p:grpSpPr>
              <a:xfrm>
                <a:off x="0" y="4928760"/>
                <a:ext cx="4356000" cy="961200"/>
                <a:chOff x="0" y="4928760"/>
                <a:chExt cx="4356000" cy="961200"/>
              </a:xfrm>
            </p:grpSpPr>
            <p:sp>
              <p:nvSpPr>
                <p:cNvPr id="459" name="Rectangle 30"/>
                <p:cNvSpPr/>
                <p:nvPr/>
              </p:nvSpPr>
              <p:spPr>
                <a:xfrm>
                  <a:off x="0" y="4928760"/>
                  <a:ext cx="4356000" cy="961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πείραμα : στοιχείο φυσικών επιστημών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31"/>
                <p:cNvSpPr/>
                <p:nvPr/>
              </p:nvSpPr>
              <p:spPr>
                <a:xfrm>
                  <a:off x="6480" y="4928760"/>
                  <a:ext cx="43164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Group 32"/>
              <p:cNvGrpSpPr/>
              <p:nvPr/>
            </p:nvGrpSpPr>
            <p:grpSpPr>
              <a:xfrm>
                <a:off x="4285800" y="4928760"/>
                <a:ext cx="4857120" cy="961200"/>
                <a:chOff x="4285800" y="4928760"/>
                <a:chExt cx="4857120" cy="961200"/>
              </a:xfrm>
            </p:grpSpPr>
            <p:sp>
              <p:nvSpPr>
                <p:cNvPr id="462" name="Rectangle 33"/>
                <p:cNvSpPr/>
                <p:nvPr/>
              </p:nvSpPr>
              <p:spPr>
                <a:xfrm>
                  <a:off x="4285800" y="4928760"/>
                  <a:ext cx="4857120" cy="961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Πείραμα: άσκηση σε δεξιότητες (νοητικές και χειρωνακτικές) και στοιχείο φ.ε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Rectangle 34"/>
                <p:cNvSpPr/>
                <p:nvPr/>
              </p:nvSpPr>
              <p:spPr>
                <a:xfrm>
                  <a:off x="4321080" y="4928760"/>
                  <a:ext cx="48150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35"/>
              <p:cNvGrpSpPr/>
              <p:nvPr/>
            </p:nvGrpSpPr>
            <p:grpSpPr>
              <a:xfrm>
                <a:off x="0" y="5890320"/>
                <a:ext cx="4321080" cy="961200"/>
                <a:chOff x="0" y="5890320"/>
                <a:chExt cx="4321080" cy="961200"/>
              </a:xfrm>
            </p:grpSpPr>
            <p:sp>
              <p:nvSpPr>
                <p:cNvPr id="465" name="Rectangle 36"/>
                <p:cNvSpPr/>
                <p:nvPr/>
              </p:nvSpPr>
              <p:spPr>
                <a:xfrm>
                  <a:off x="0" y="5890320"/>
                  <a:ext cx="4285800" cy="961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διαισθητικές αντιλήψεις μαθητών ?    tabula ras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Rectangle 37"/>
                <p:cNvSpPr/>
                <p:nvPr/>
              </p:nvSpPr>
              <p:spPr>
                <a:xfrm>
                  <a:off x="6480" y="5890320"/>
                  <a:ext cx="43146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Group 38"/>
              <p:cNvGrpSpPr/>
              <p:nvPr/>
            </p:nvGrpSpPr>
            <p:grpSpPr>
              <a:xfrm>
                <a:off x="4321440" y="5890320"/>
                <a:ext cx="4821480" cy="961200"/>
                <a:chOff x="4321440" y="5890320"/>
                <a:chExt cx="4821480" cy="961200"/>
              </a:xfrm>
            </p:grpSpPr>
            <p:sp>
              <p:nvSpPr>
                <p:cNvPr id="468" name="Rectangle 39"/>
                <p:cNvSpPr/>
                <p:nvPr/>
              </p:nvSpPr>
              <p:spPr>
                <a:xfrm>
                  <a:off x="4356360" y="5890320"/>
                  <a:ext cx="4786560" cy="961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διαισθητικές αντιλήψεις ?        ναι, αλλά αλλάζουν με διδασκαλία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Rectangle 40"/>
                <p:cNvSpPr/>
                <p:nvPr/>
              </p:nvSpPr>
              <p:spPr>
                <a:xfrm>
                  <a:off x="4321440" y="5890320"/>
                  <a:ext cx="48150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0" name="Rectangle 41"/>
            <p:cNvSpPr/>
            <p:nvPr/>
          </p:nvSpPr>
          <p:spPr>
            <a:xfrm>
              <a:off x="0" y="1752480"/>
              <a:ext cx="9143640" cy="51051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212760" y="-79200"/>
            <a:ext cx="8718480" cy="16635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213840" y="1357200"/>
            <a:ext cx="4281480" cy="54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δάσκαλος 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δ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ιευκολ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ύνει εποικ/ση γνώση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μαθητής ενεργό υποκείμενο μάθησης αλλά και ενήμερος των ιδεών του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εριεχόμενο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επιλεγμένο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(ύπαρξη διαισθητικών αντιλήψεων)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1640" y="1356840"/>
            <a:ext cx="4343400" cy="54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δάσκαλος διευκολ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ύνει ανακάλυψη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μαθητής ενεργό υποκείμενο μάθησης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εριεχόμενο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ε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ιλεγμένο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(ότι «υπάρχει»)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0" y="285480"/>
            <a:ext cx="4495680" cy="637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είραμα : στοιχείο Φυσικών  Επιστημών και </a:t>
            </a:r>
            <a:r>
              <a:rPr b="0" lang="el-GR" sz="2800" spc="-1" strike="noStrike" u="sng">
                <a:solidFill>
                  <a:srgbClr val="4e3b30"/>
                </a:solidFill>
                <a:uFillTx/>
                <a:latin typeface="Arial"/>
                <a:ea typeface="Arial"/>
              </a:rPr>
              <a:t>διδασκαλία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διαισθητικές αντιλήψεις μαθητών ?    αφετηρία διδασκαλίας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γνώση και μεταγνώση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648320" y="285480"/>
            <a:ext cx="449568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είραμα: στοιχείο Φ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. Ε.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 και άσκηση σε δεξιότητες (νοητικές και χειρωνακτικές)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διαισθητικές αντιλήψεις  μαθητών ?  ναι, αλλά αλλάζουν με διδασκαλία (επιλογή)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γνώσ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249120" y="212760"/>
            <a:ext cx="8645760" cy="126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206280" y="1197000"/>
          <a:ext cx="8686800" cy="5573520"/>
        </p:xfrm>
        <a:graphic>
          <a:graphicData uri="http://schemas.openxmlformats.org/drawingml/2006/table">
            <a:tbl>
              <a:tblPr/>
              <a:tblGrid>
                <a:gridCol w="2637000"/>
                <a:gridCol w="3154320"/>
                <a:gridCol w="2895480"/>
              </a:tblGrid>
              <a:tr h="67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ακάλυψ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ποικοδόμησ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ιερεύνησ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Χειρισμός (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ands on</a:t>
                      </a: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Εννοιολογικά (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inds on</a:t>
                      </a: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Και τα δύο </a:t>
                      </a:r>
                      <a:r>
                        <a:rPr b="0" lang="el-GR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Αυθεντικότητ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Υποσύνολο Διερεύνηση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Τροποποιεί Ανακάλυψη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66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Ενσωματώνει Εποικοδόμησ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66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Διευρύνε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Ανακάλυψ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Πειραματικές αναφορέ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Ανάδειξη ιδεών μαθητώ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«Διάβασμα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«Γράψιμ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Ενσωματώνει το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T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1353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228600" y="1571400"/>
            <a:ext cx="8610480" cy="5105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«Οι αρχές αντίδρασης καθοδηγούν τις απαντήσεις του/της εκπαιδευτικού  στο/στη μαθητή / τρια. Αυτές λένε στον/στην εκπαιδευτικό πώς να βλέπει το/τη  μαθητή/ τρια και πώς να αντιδρά σε ότι αυτός/ή κάνει…Οι αρχές αντίδρασης παρέχουν στον/στην εκπαιδευτικό εμπειρικές μεθόδους με βάση τις οποίες «εναρμονίζονται» στους/στις  μαθητές/τριες και επιλέγουν κατάλληλες απαντήσεις σ’ αυτά που οι μαθητές/ τριες κάνουν».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217000" cy="13539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28400" y="1600200"/>
            <a:ext cx="8258040" cy="5029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φορά τους ρόλους των μαθητών/τριών και εκπαιδευτικών, τις σχέσεις των ρόλων και τις μορφές κανονισμών που προωθούνται στην τάξη. Για παράδειγμα, σε ένα μοντέλο ο/η εκπαιδευτικός μπορεί να διευκολύνει την ομαδική δραστηριότητα των μαθητών/τριών, σ’ ένα άλλο μοντέλο, ο/η εκπαιδευτικός μπορεί να είναι ο/η προσωπικός/ή σύμβουλος των μαθητών/τριών κ.λπ. 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360360" y="231840"/>
            <a:ext cx="8423280" cy="115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304920" y="1600200"/>
            <a:ext cx="853416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σύστημα υποστήριξης περιγράφει τις ειδικότερες ανάγκες ενός μοντέλου, όπως τις ειδικότερες δεξιότητες που χρειάζεται να έχει ο/η εκπαιδευτικός για την εφαρμογή του μοντέλου ή τις ιδιαίτερες τεχνικές ανάγκες που ενδεχομένως απαιτούνται (π.χ. αρκετά διδακτικά υλικά). Για παράδειγμα, ο/η εκπαιδευτικός που διεκπεραιώνει ένα μοντέλο «μη κατευθυνόμενο», απαιτείται να είναι ιδιαίτερα υπομονετικός και υποστηρικτικός,  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500040" y="139680"/>
            <a:ext cx="8302680" cy="1981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2047680"/>
            <a:ext cx="8229600" cy="4524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εταφοράς της γνώση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ansmission of knowledge)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ακαλυπτικ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scovery)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ποικοδομητικ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onstructivist)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ερεύνηση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quiry)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176040" y="231840"/>
            <a:ext cx="8785440" cy="13478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356760" y="1571760"/>
            <a:ext cx="8481960" cy="4952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Θεωρία Μάθησης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Συμπεριφοριστική – Συσσωρευτική διαδικασία μεταβίβασης της γνώση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Μαθητής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Παθητικός Δέκτης, δεν έχει Αρχικές Ιδέε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Δάσκαλος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Κάτοχος, Φορέας και αυτός που Εγκυροποιεί  τη γνώση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Φάσεις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ξοικείωσης και Προβληματισμού, Εισαγωγής, Εφαρμογής και Αξιολόγησης της νέας γνώση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Γνώση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Πληροφοριακό ή και οργανωτικό επίπεδο – Μνήμης ή \και Επεξηγηματικής Κατανόηση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Πείραμα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Επίδειξης - Επιβεβαίωσης νέας γνώση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478720" cy="11224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28400" y="1699920"/>
            <a:ext cx="8358120" cy="466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πό τη απλή και «βαρετή» διάλεξη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Ως την εξαιρετική επίδειξη (πειραμάτων, εικόνων, ταινιών, τρισδιάστατων αντικειμένων. ……. ) ή και την αφήγηση σε συνδυασμό με μυθοποίηση για τις μικρές ηλικίες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ε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ετάμ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τίποτε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35:42Z</dcterms:created>
  <dc:creator>qwerty</dc:creator>
  <dc:description/>
  <dc:language>en-US</dc:language>
  <cp:lastModifiedBy>Πέτρος Καριώτογλου</cp:lastModifiedBy>
  <dcterms:modified xsi:type="dcterms:W3CDTF">2019-05-14T20:18:07Z</dcterms:modified>
  <cp:revision>168</cp:revision>
  <dc:subject/>
  <dc:title>Κρίσιμα Ερωτήματα</dc:title>
</cp:coreProperties>
</file>